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8784-3305-4C02-A8A6-0A61CDDE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502-CDE2-47C0-AAA0-D43B26C8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6F1-F34E-4FCE-B498-9636D951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977-DC87-4134-AD10-D3F7A277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625E-D12C-44CE-B725-7A50E0C8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1E8F-A915-41B4-893E-A1B87C7E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E190-05E6-4998-A463-44E5246C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7095-E206-4DCC-B137-D9BA6AD7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99B9-C750-45A6-84D8-99297DC1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2936-CD29-400F-AC66-E36B5671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D4A1-24F5-4C01-B41B-1C60829B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215-6444-4499-998C-21A1A4D5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501C-0749-4D23-93EF-4F5BE63F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9CC9-26D9-4785-BFD1-9EBE68D7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53FC-63F2-4B61-920D-96159938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F9A6-5905-464C-BEA1-6CB767D6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F0C8-CCB3-43D9-AE45-25926B33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426-E524-4100-8809-F81D90E8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CC3-8E68-4AE9-92DD-82003E5D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EC80-0FCA-4530-A4FB-B9BC088A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CA0-339A-49BD-A3CC-C2C3D54B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38A-AC1A-4245-B039-2D7ABF9C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885-D456-408C-A92F-0D467089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595-C507-4B79-B9C2-F055607F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7720-3F98-431D-B9AC-A07BF6B0A6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2AFA-42B9-4E56-B5E3-24DB116022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enttipaperi.pdf" TargetMode="External"/><Relationship Id="rId3" Type="http://schemas.openxmlformats.org/officeDocument/2006/relationships/hyperlink" Target="file:///tenttipaperi.pdf" TargetMode="External"/><Relationship Id="rId4" Type="http://schemas.openxmlformats.org/officeDocument/2006/relationships/hyperlink" Target="file:///tenttipaperi.pdf" TargetMode="External"/><Relationship Id="rId5" Type="http://schemas.openxmlformats.org/officeDocument/2006/relationships/hyperlink" Target="file:///lomake.xls" TargetMode="External"/><Relationship Id="rId6" Type="http://schemas.openxmlformats.org/officeDocument/2006/relationships/hyperlink" Target="file:///lomake.xls" TargetMode="External"/><Relationship Id="rId7" Type="http://schemas.openxmlformats.org/officeDocument/2006/relationships/hyperlink" Target="file:///lomake.xls" TargetMode="External"/><Relationship Id="rId8" Type="http://schemas.openxmlformats.org/officeDocument/2006/relationships/hyperlink" Target="file:///opiskelijalle.png" TargetMode="External"/><Relationship Id="rId9" Type="http://schemas.openxmlformats.org/officeDocument/2006/relationships/hyperlink" Target="file:///opiskelijalle.png" TargetMode="External"/><Relationship Id="rId10" Type="http://schemas.openxmlformats.org/officeDocument/2006/relationships/hyperlink" Target="file:///opiskelijalle.png" TargetMode="External"/><Relationship Id="rId11" Type="http://schemas.openxmlformats.org/officeDocument/2006/relationships/hyperlink" Target="file:///opiskelijalle.txt" TargetMode="External"/><Relationship Id="rId12" Type="http://schemas.openxmlformats.org/officeDocument/2006/relationships/hyperlink" Target="file:///pistehistogrammi.png" TargetMode="External"/><Relationship Id="rId13" Type="http://schemas.openxmlformats.org/officeDocument/2006/relationships/hyperlink" Target="file:///pistehistogrammi.png" TargetMode="External"/><Relationship Id="rId14" Type="http://schemas.openxmlformats.org/officeDocument/2006/relationships/hyperlink" Target="file:///pistehistogrammi.png" TargetMode="External"/><Relationship Id="rId15" Type="http://schemas.openxmlformats.org/officeDocument/2006/relationships/hyperlink" Target="file:///kurssipalaute_10.txt" TargetMode="External"/><Relationship Id="rId1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valintatehtävät arvioinnin välineenä matemaattispainotteisella massakurssil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ukka Parviainen, parvi@tkk.f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liopisto-opettaja, Informaatiotekniikan laborato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4365720"/>
            <a:ext cx="72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kTori. Espoo, 3.12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sält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pauksen esitte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imerkki monivalintalomakkeen automaattisesta tarkastamise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skustelun aiheit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almiita tietojärjestelmiä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valinnoilla tehtävän arvioinnin mielekkyy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pean tenttipalautteen hyödy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ttp://www.cis.hut.fi/Opinnot/T-61.3010/reflektori2007.sht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9CD-3827-4ABB-A971-A1CB56C5EF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pauksen esittel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nivalintatehtävät 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vioinnin välineenä 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temaattispainotteisella 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ssakurssill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uosina 2006-2007 käytetty järjestelmä: “softaa”, sälää ja sählinkiä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F9E-3D1D-4B4C-8844-7C4B43FD74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nivalintatehtävät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/B/C/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ikeita vastauksia 1-4 kp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iskelija valitsee korkeintaan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ikein = +1p, väärin = -0.5p, ei vastausta 0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011-27DE-4DE0-9AC9-41049CA12E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vioinnin välineenä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hdessä välikokeessa (18p) 14 monivalintaa, kokonaispisteet 0-12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aikkiaan välikoepisteistä 2/3, kokonaispisteistä 1/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atiin “hyvä” pistehajo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hteellisen positiivinen opiskelijapala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801-CC31-4D63-819E-D01FF9DCC9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temaattispainotteisella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-61.3010 Digitaalinen signaalinkäsittely ja suodatus (6 o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skuja puettu monivalintatehtäviks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ysytään lopputulosta, välivaihetta, tapaa ratkaista, termejä,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kaisu suoraan, pudottamalla vääriä pois,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875-4C27-4479-B121-C0FCDD8018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ssakurssilla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rssilla noin 350 ilmoittautumista, 250 suorittaja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urin osa S-osastol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andivaiheen loppukursse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ssa” -- Tietotekniikan käyttö tarkistuksessa ajallisesti ja työmääräisesti plus-miinus-nolla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49D5-12A0-4AAB-A34B-1051D4D7BB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imerkki monivalintalomakkeen automaattisesta tarkastamisest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ysymykset tenttipaperissa perinteisessä tenttitilaisuudessa 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[ #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df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iskelijan vastauspaperi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[ #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xls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kannattu ja käsitelty paperi 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[ #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png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iskelijalle lähtevä viesti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[ #txt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yypillinen pistehistogrammi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[ #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png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iskelijoiden antama kurssipala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lveliko oppimisen mittaamista?”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[ #txt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E72-53FC-45B4-8302-65C155D155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skustelu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yörä keksitty uudelleen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9.10.2007 opinnot.yleine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ksi tenttien tarkistaminen vie kauan?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lmiita tietojärjestelmiä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nivalinnoilla tehtävän arvioinnin mielekkyy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pean tenttipalautteen hyödy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8E4-329B-4269-BD2A-D8973795FC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9:30:36Z</dcterms:created>
  <dc:creator>Jukka Parviainen</dc:creator>
  <dc:description/>
  <dc:language>en-US</dc:language>
  <cp:lastModifiedBy>Jukka Parviainen</cp:lastModifiedBy>
  <dcterms:modified xsi:type="dcterms:W3CDTF">2007-11-27T22:31:38Z</dcterms:modified>
  <cp:revision>12</cp:revision>
  <dc:subject/>
  <dc:title>Monivalintatehtävät arvioinnin välineenä matemaattispainotteisella massakurssilla</dc:title>
</cp:coreProperties>
</file>