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7E8-5D5B-4FF3-9346-EBC33B4B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C355-A9F5-46D4-9746-71C47323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647-E28E-4FBF-B590-E8F1E911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DCD-D805-4AE8-B95D-50DCB933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B099-AE85-47E1-B83A-70ECE99DD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CC85-2EAE-4CFF-8654-05962B52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1341-1D5F-4F1A-8E16-7A1E9829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0A55-DB9E-4CCE-832F-CA06ED9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9135-F2F6-47E4-95B9-67C50310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1620-4EB3-4812-8A14-84E71F76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7B6A-AB63-4EDF-A853-50AEA83A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620-030E-46A0-82D5-5A9E2A39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8564B-929C-45A2-9EA6-2136D587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1C6C-6EE4-4791-8082-92B4E792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50ED-4918-4C62-ABD7-BB8A50EA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20C4-AC5D-42BE-B5E1-4B398CD8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1A54-9E18-4F1E-9994-34E0C55B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BE0-1F26-45C5-86F9-AF46FED5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ED6D-BD3B-4879-BB79-066807CD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299-DF79-43E4-935E-14DBCA5D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B8B-8D52-40BE-9A6A-FB6EC72B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655-F155-47B5-A5C8-ABABEC4DE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939-2790-4C34-AF1B-2105307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93C-E563-41EA-A3C2-FAAAA22D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0091-27CC-45CF-A3F5-7683FB8B32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A39C-D966-4D9F-B15A-CBD53480FC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enttipaperi.pdf" TargetMode="External"/><Relationship Id="rId3" Type="http://schemas.openxmlformats.org/officeDocument/2006/relationships/hyperlink" Target="file:///tenttipaperi.pdf" TargetMode="External"/><Relationship Id="rId4" Type="http://schemas.openxmlformats.org/officeDocument/2006/relationships/hyperlink" Target="file:///tenttipaperi.pdf" TargetMode="External"/><Relationship Id="rId5" Type="http://schemas.openxmlformats.org/officeDocument/2006/relationships/hyperlink" Target="file:///lomake.xls" TargetMode="External"/><Relationship Id="rId6" Type="http://schemas.openxmlformats.org/officeDocument/2006/relationships/hyperlink" Target="file:///lomake.xls" TargetMode="External"/><Relationship Id="rId7" Type="http://schemas.openxmlformats.org/officeDocument/2006/relationships/hyperlink" Target="file:///lomake.xls" TargetMode="External"/><Relationship Id="rId8" Type="http://schemas.openxmlformats.org/officeDocument/2006/relationships/hyperlink" Target="file:///opiskelijalle.png" TargetMode="External"/><Relationship Id="rId9" Type="http://schemas.openxmlformats.org/officeDocument/2006/relationships/hyperlink" Target="file:///opiskelijalle.png" TargetMode="External"/><Relationship Id="rId10" Type="http://schemas.openxmlformats.org/officeDocument/2006/relationships/hyperlink" Target="file:///opiskelijalle.png" TargetMode="External"/><Relationship Id="rId11" Type="http://schemas.openxmlformats.org/officeDocument/2006/relationships/hyperlink" Target="file:///opiskelijalle.txt" TargetMode="External"/><Relationship Id="rId12" Type="http://schemas.openxmlformats.org/officeDocument/2006/relationships/hyperlink" Target="file:///pistehistogrammi.png" TargetMode="External"/><Relationship Id="rId13" Type="http://schemas.openxmlformats.org/officeDocument/2006/relationships/hyperlink" Target="file:///pistehistogrammi.png" TargetMode="External"/><Relationship Id="rId14" Type="http://schemas.openxmlformats.org/officeDocument/2006/relationships/hyperlink" Target="file:///pistehistogrammi.png" TargetMode="External"/><Relationship Id="rId15" Type="http://schemas.openxmlformats.org/officeDocument/2006/relationships/hyperlink" Target="file:///kurssipalaute_10.txt" TargetMode="External"/><Relationship Id="rId1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valintatehtävät arvioinnin välineenä matemaattispainotteisella massakurssil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ukka Parviainen, parvi@tkk.f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liopisto-opettaja, Informaatiotekniikan laborator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4365720"/>
            <a:ext cx="7272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lekTori. Espoo, 3.12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ält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pauksen esitte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imerkki monivalintalomakkeen automaattisesta tarkastamises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eskustelun aiheit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almiita tietojärjestelmiä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valinnoilla tehtävän arvioinnin mielekkyys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pean tenttipalautteen hyödyt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ttp://www.cis.hut.fi/Opinnot/T-61.3010/reflektori2007.sht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36C-B7EE-4F72-A6B3-315E7E0CE50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apauksen esittel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valintatehtävät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vioinnin välineenä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temaattispainotteisella 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ssakurssill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uosina 2006-2007 käytetty järjestelmä: “softaa”, sälää ja sählinkiä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DB0-AA05-4A6E-AA94-60086D474E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nivalintatehtävät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/B/C/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keita vastauksia 1-4 kp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 valitsee korkeintaan 1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ikein = +1p, väärin = -0.5p, ei vastausta 0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3480-C883-46EC-A70A-AE296A89BF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rvioinnin välineenä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hdessä välikokeessa (18p) 14 monivalintaa, kokonaispisteet 0-12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aikkiaan välikoepisteistä 2/3, kokonaispisteistä 1/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atiin “hyvä” pistehajon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hteellisen positiivinen opiskelijapala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27A5-9486-447D-9F2B-1547ED77B6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temaattispainotteisella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-61.3010 Digitaalinen signaalinkäsittely ja suodatus (6 o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skuja puettu monivalintatehtäviks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ysytään lopputulosta, välivaihetta, tapaa ratkaista, termejä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kaisu suoraan, pudottamalla vääriä pois, 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F4A-461E-4562-A123-2941EA7B68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assakurssilla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rssilla noin 350 ilmoittautumista, 250 suorittaja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urin osa S-osastol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andivaiheen loppukurssej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ssa” -- Tietotekniikan käyttö tarkistuksessa ajallisesti ja työmääräisesti plus-miinus-nolla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2FBF-E56A-48E1-8F7E-3189F16495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imerkki monivalintalomakkeen automaattisesta tarkastamises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ysymykset tenttipaperissa perinteisessä tenttitilaisuudessa 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[ #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df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n vastauspaper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[ #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xls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kannattu ja käsitelty paperi 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[ #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png</a:t>
            </a:r>
            <a:r>
              <a:rPr b="0" lang="fi-FI" sz="1400" spc="-1" strike="noStrike" u="sng">
                <a:solidFill>
                  <a:srgbClr val="336699"/>
                </a:solidFill>
                <a:uFillTx/>
                <a:latin typeface="Verdana"/>
                <a:hlinkClick r:id="rId10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alle lähtevä viest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1"/>
              </a:rPr>
              <a:t>[ #txt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ypillinen pistehistogrammi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2"/>
              </a:rPr>
              <a:t>[ #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3"/>
              </a:rPr>
              <a:t>png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4"/>
              </a:rPr>
              <a:t>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iskelijoiden antama kurssipalau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3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lveliko oppimisen mittaamista?” 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  <a:hlinkClick r:id="rId15"/>
              </a:rPr>
              <a:t>[ #txt ]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D0F-30E7-4957-859B-7241981A9DC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Keskustelu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yörä keksitty uudelleen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9.10.2007 opinnot.yleine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ksi tenttien tarkistaminen vie kauan?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lmiita tietojärjestelmiä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nivalinnoilla tehtävän arvioinnin mielekkyy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pean tenttipalautteen hyödy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viainen: Monivalintatehtävät..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2AA1-F308-46AC-931A-B4F18176A0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ReflekTori, 3.12.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19:30:36Z</dcterms:created>
  <dc:creator>Jukka Parviainen</dc:creator>
  <dc:description/>
  <dc:language>en-US</dc:language>
  <cp:lastModifiedBy>Jukka Parviainen</cp:lastModifiedBy>
  <dcterms:modified xsi:type="dcterms:W3CDTF">2007-11-27T22:31:38Z</dcterms:modified>
  <cp:revision>12</cp:revision>
  <dc:subject/>
  <dc:title>Monivalintatehtävät arvioinnin välineenä matemaattispainotteisella massakurssilla</dc:title>
</cp:coreProperties>
</file>